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246-6621-41BB-B2C7-A682BB89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F7C-FE38-472A-BBC2-468B91FB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3F1-8F23-4B61-8258-DF6A73FA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AA4-C4A8-46BC-BF68-3771346D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9CE-57D8-4F02-83B4-B012180E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FAE-341E-4B91-BF6A-D206386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476-CE9D-4810-9EC0-E736733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5F2-D4B5-41A7-BF83-838C51C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980-7857-4E14-B5B2-95EE05C9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F2D-243E-464E-8AB3-70DC847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F3B-1A5A-4E06-A9FB-88F599F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E82-26A2-4C5C-B6E8-2E30E21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31F-C44C-4893-9836-ACDDD3BAF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RS page Onex.jpg"/>
          <p:cNvPicPr/>
          <p:nvPr/>
        </p:nvPicPr>
        <p:blipFill>
          <a:blip r:embed="rId1"/>
          <a:stretch/>
        </p:blipFill>
        <p:spPr>
          <a:xfrm>
            <a:off x="0" y="99072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IRS page Two.jpg"/>
          <p:cNvPicPr/>
          <p:nvPr/>
        </p:nvPicPr>
        <p:blipFill>
          <a:blip r:embed="rId1"/>
          <a:stretch/>
        </p:blipFill>
        <p:spPr>
          <a:xfrm>
            <a:off x="0" y="-14436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IRS page Three.jpg"/>
          <p:cNvPicPr/>
          <p:nvPr/>
        </p:nvPicPr>
        <p:blipFill>
          <a:blip r:embed="rId1"/>
          <a:stretch/>
        </p:blipFill>
        <p:spPr>
          <a:xfrm>
            <a:off x="0" y="-144360"/>
            <a:ext cx="68580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05:57Z</dcterms:created>
  <dc:creator>Robert</dc:creator>
  <dc:description/>
  <dc:language>en-US</dc:language>
  <cp:lastModifiedBy>RobertSteele</cp:lastModifiedBy>
  <dcterms:modified xsi:type="dcterms:W3CDTF">2012-10-10T03:50:01Z</dcterms:modified>
  <cp:revision>4</cp:revision>
  <dc:subject/>
  <dc:title>Slide 1</dc:title>
</cp:coreProperties>
</file>